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FF6-EB2D-4A75-8958-419A3711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1B1-D9E8-4AD2-8234-3ACEE3C9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176-24F1-4D60-A6FE-F616C736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9B2-B515-4915-A070-06EBF270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BF07-9A21-461D-8D4A-6FA1E626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D988-C4F4-4A97-9F05-7F685B4F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7CE5-A90F-4D7E-B4CD-CFBCDB8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6353-DFC6-4099-8DF9-492683A1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49DA-5D16-4EC8-BD6E-0AC0FF84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92ED-EF88-4D90-83BA-A65AD463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DDE2-AC61-465F-9BBE-A46EBCB4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30E-0942-4014-B0A3-76383A52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FA4D-E1B7-49B6-A72F-4807FA02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935D-A762-43B4-B03C-3D82CB12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ED5C-98EF-41CC-B03B-D433CC0D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C919-760A-4C79-9DFD-B9D98A7B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0989-1582-4C6D-8582-8FA9AAEE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0A4-0EC8-4F90-A08D-96DA2C9F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39B-93F8-45BD-A087-15E1516A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C54-0993-4F80-BDE9-DCA76D90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312-F2D2-47E9-9B64-F9CD019F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289-8C79-4757-8A14-B493F123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51C-AB37-41E9-809B-D2A9375F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13C-7B15-44A6-9E3C-3B6B46DD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E5CC-A123-40E3-8816-DC6F47F1E5FC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3B68-48FE-4BEE-9634-5C608030FF0D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654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654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McCluresCoverJan190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Progressivism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Changing America politically, economically, &amp; socially/morally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Progress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: a forward or onward movement; as to an objective or to a go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Reform: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to  change into an improved form or cond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Goals of the Progressive Movement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o return control of government to the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Restore economic opportunities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orrect injustices in American life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How do we reach our goals?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y using science and technology.  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r example the assembly line = efficiency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(research used)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1.  Restoring Economic Opportunities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4305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Muckraker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ournalists who wrote about corrupt business practices and politicians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acob Riis, Ida B. Wells Upton Sinclair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  <p:pic>
        <p:nvPicPr>
          <p:cNvPr id="92" name="" descr="McClure's Magazine (cover, Jan, 1901) published many early muckraker articl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2514600"/>
            <a:ext cx="2880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a.  Make govt efficien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. Gov’t divided into several department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ii. Easier to manage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hanges in the election process to allow the people to get more involved…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.  Direct primary – people for a candidat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.  Initiative – citizens could initiate new law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d.  Referendum- people vote on new laws w/o going to house legislature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e.  Recall – could vote out an elected offici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.  17</a:t>
            </a:r>
            <a:r>
              <a:rPr b="0" lang="en-US" sz="3200" spc="-1" strike="noStrike" baseline="30000">
                <a:solidFill>
                  <a:srgbClr val="5654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Amendment – direct voting for senato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c24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414c24"/>
                </a:solidFill>
                <a:latin typeface="Times New Roman"/>
              </a:rPr>
              <a:t>. Restoring society (correcting injustices)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Min. age and hours for childre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Compensation benefits,better working conditions, and h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Women’s Christian Temperance Union – pushed for prohib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27:49Z</dcterms:created>
  <dc:creator>School District U46</dc:creator>
  <dc:description/>
  <cp:keywords/>
  <dc:language>en-US</dc:language>
  <cp:lastModifiedBy>School District U46</cp:lastModifiedBy>
  <dcterms:modified xsi:type="dcterms:W3CDTF">2010-10-19T17:13:50Z</dcterms:modified>
  <cp:revision>16</cp:revision>
  <dc:subject/>
  <dc:title>Progressiv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51033</vt:lpwstr>
  </property>
</Properties>
</file>